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672A-C858-4BF3-A84F-076FF03B1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14A1-78A1-4BCB-8CFE-A454A3EA0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E3CC-3FBF-4B13-B0BD-56EEC3CD5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5202-36DB-4A1C-ADE3-463A18BCE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2BBE-E7F0-40EB-9266-638555B40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45FC-A562-41BD-8148-A8A9D0F99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246D-2BC3-49CF-8F7B-93630425E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AFD2-306B-42CA-839C-744E47AA4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3109-496D-4074-94BA-546C574ED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DC0D-00D4-422C-B753-933EA1C5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0227-4D64-4A50-8B96-1A4B49C6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263D-E014-440C-B36A-229E596B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ACAEC-0315-41FD-89E9-CBF0E50BEA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nchantedlearning.com/usa/statesbw/texas.shtml" TargetMode="External"/><Relationship Id="rId2" Type="http://schemas.openxmlformats.org/officeDocument/2006/relationships/image" Target="../media/image2.png"/><Relationship Id="rId3" Type="http://schemas.openxmlformats.org/officeDocument/2006/relationships/hyperlink" Target="http://www.enchantedlearning.com/usa/states/texas/" TargetMode="External"/><Relationship Id="rId4" Type="http://schemas.openxmlformats.org/officeDocument/2006/relationships/hyperlink" Target="http://www.enchantedlearning.com/usa/states/texas/" TargetMode="External"/><Relationship Id="rId5" Type="http://schemas.openxmlformats.org/officeDocument/2006/relationships/hyperlink" Target="http://www.enchantedlearning.com/usa/states/texas/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324480" y="4952880"/>
            <a:ext cx="28195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ejandro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/19/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#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80880" y="380880"/>
            <a:ext cx="822960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Texas</a:t>
            </a:r>
            <a:endParaRPr b="0" lang="en-US" sz="4800" spc="1" strike="noStrike">
              <a:ln w="12600">
                <a:solidFill>
                  <a:srgbClr val="b2b2b2"/>
                </a:solidFill>
                <a:miter/>
              </a:ln>
              <a:solidFill>
                <a:srgbClr val="ff66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3962520"/>
            <a:ext cx="533160" cy="533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828800" y="4572000"/>
            <a:ext cx="30481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states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exas state song,4/10/12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ww.50state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ff6600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ital: Aust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: 25,145,56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to: Friend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ckname: Lone star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wer: Bluebon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rd: Mockingbi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ng: Texas, our Tex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ing behind name: From a native word meaning fri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ered union: Dec.29,1845  2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st City: Hous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380880"/>
            <a:ext cx="4010040" cy="3881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28600" y="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p of Tex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43434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hanted learning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exas ma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Mar 22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95288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enchantedlearning.com/usa/states/texas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State Flag of Texas"/>
          <p:cNvPicPr/>
          <p:nvPr/>
        </p:nvPicPr>
        <p:blipFill>
          <a:blip r:embed="rId6"/>
          <a:stretch/>
        </p:blipFill>
        <p:spPr>
          <a:xfrm>
            <a:off x="4800600" y="431640"/>
            <a:ext cx="4191120" cy="2794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876920" y="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ag of Tex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76920" y="32767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w.ou.edu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exas fla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Mar 22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365760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358128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343400" y="37339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aw.ou.edu/hist/flags/stflagmtwy.s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Picture of the Blue Bonnet, the official state flower of Texas."/>
          <p:cNvPicPr/>
          <p:nvPr/>
        </p:nvPicPr>
        <p:blipFill>
          <a:blip r:embed="rId1"/>
          <a:stretch/>
        </p:blipFill>
        <p:spPr>
          <a:xfrm>
            <a:off x="228600" y="609480"/>
            <a:ext cx="3429000" cy="2133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33520" y="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e Flower: Bluebon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289548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S50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luebon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, April 4,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7080" y="3505320"/>
            <a:ext cx="26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theus50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572000" y="304920"/>
            <a:ext cx="3659040" cy="41907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495680" y="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e bird: Mocking bi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52880" y="45720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p 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13:16:39Z</dcterms:created>
  <dc:creator>install</dc:creator>
  <dc:description/>
  <dc:language>en-US</dc:language>
  <cp:lastModifiedBy>install</cp:lastModifiedBy>
  <dcterms:modified xsi:type="dcterms:W3CDTF">2012-04-16T13:14:59Z</dcterms:modified>
  <cp:revision>10</cp:revision>
  <dc:subject/>
  <dc:title>Slide 1</dc:title>
</cp:coreProperties>
</file>